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6951663" cy="5029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B1EE4-E624-452A-8677-CE9609F87C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D2058-4F49-4F2A-AABB-EFB0CD5C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26E83-FA0D-401C-B761-60C07BD0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62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62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7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381E6-E17F-4D43-A103-DE9D9CD165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2D3A4-4548-45B4-B82F-963D4F03C2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8AB90-5407-4D02-AE68-0EBC3F8B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5161A-364A-4073-9D99-DE8B608E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9E0F5-C2A4-420F-B365-D33CC38F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BC161-0598-455F-8ABA-946BCE87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8C3CF-AB52-429A-8BAF-8D8FB536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A1810-496F-41C4-BB65-1EDC5F19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8FD46-5169-46BF-9DD1-61A2A181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09D86-A659-4C2E-85FD-C2D25701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2AC41-B5F9-43C8-BD76-3B5B2D05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A3398-C2B0-4B02-8290-C4E580E8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2947F-B54B-4D2D-BD81-56DB0F73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62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62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57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3D223-62E2-42EB-B03C-243C0E9CCB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6E59FD-EF37-456A-8208-9110D583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4DF653-A5BE-46AF-BDEB-128CF40D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D3A294-CE39-49FF-ABE7-E656B88C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727D1E-C876-4ECF-99B7-FA204AF2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80B2DC-0AE1-4D51-9649-6A34CAEE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C0D8D-0652-4DC8-B745-A497D70C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6B673B-CF83-4E35-BBE0-B8F23FAB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2B0E37-9C0D-435A-898B-131D9020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4CAADF-AAA9-48B7-9B3B-FDC792E7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3FB55B-45D7-46CF-BFE5-78EDB65F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D2268C-39E6-4860-B0D0-F525ECDB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E79832-B2B5-40F3-B836-48BAB9F8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62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4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462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457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BF5045-B5EC-4CB4-956C-0EA7AEBF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3A367-DBC8-4B75-9762-A8A1D7EA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5295A-7F08-47D8-8E24-B61D7CDA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0B4F5-F657-49A8-8378-88EB5792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4C52-6E79-40C6-93DD-404B44A2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C7CA-5EF6-4BE9-8E47-2ACD44BE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4221-A358-4763-9396-AF5529C2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GaDOE PPT Logo Background.tif"/>
          <p:cNvPicPr/>
          <p:nvPr/>
        </p:nvPicPr>
        <p:blipFill>
          <a:blip r:embed="rId2"/>
          <a:stretch/>
        </p:blipFill>
        <p:spPr>
          <a:xfrm>
            <a:off x="0" y="-200160"/>
            <a:ext cx="6950160" cy="522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3920" indent="-16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97000" indent="-16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270400" y="4660560"/>
            <a:ext cx="81144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/28/2011</a:t>
            </a:r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138720" y="4660560"/>
            <a:ext cx="46368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8438-9F24-4A46-81F7-5DCDC06EED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1139760" y="4370400"/>
            <a:ext cx="252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39d35"/>
                </a:solidFill>
                <a:latin typeface="Arial"/>
              </a:rPr>
              <a:t>Dr. John D. Barge, State School Superintendent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“</a:t>
            </a: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Making Education Work for All Georgians”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39d35"/>
                </a:solidFill>
                <a:latin typeface="Arial"/>
              </a:rPr>
              <a:t>www.gadoe.org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" name="Picture 9" descr="DOE-LOGO-single-layer-gold.gif"/>
          <p:cNvPicPr/>
          <p:nvPr/>
        </p:nvPicPr>
        <p:blipFill>
          <a:blip r:embed="rId3"/>
          <a:stretch/>
        </p:blipFill>
        <p:spPr>
          <a:xfrm>
            <a:off x="615960" y="4325760"/>
            <a:ext cx="55080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"/>
          <p:cNvPicPr/>
          <p:nvPr/>
        </p:nvPicPr>
        <p:blipFill>
          <a:blip r:embed="rId2"/>
          <a:stretch/>
        </p:blipFill>
        <p:spPr>
          <a:xfrm>
            <a:off x="0" y="-128520"/>
            <a:ext cx="6950160" cy="522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1139760" y="4370400"/>
            <a:ext cx="252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39d35"/>
                </a:solidFill>
                <a:latin typeface="Arial"/>
              </a:rPr>
              <a:t>Dr. John D. Barge, State School Superintendent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“</a:t>
            </a: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Making Education Work for All Georgians”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39d35"/>
                </a:solidFill>
                <a:latin typeface="Arial"/>
              </a:rPr>
              <a:t>www.gadoe.org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5" name="Picture 13" descr="DOE-LOGO-single-layer-gold.gif"/>
          <p:cNvPicPr/>
          <p:nvPr/>
        </p:nvPicPr>
        <p:blipFill>
          <a:blip r:embed="rId3"/>
          <a:stretch/>
        </p:blipFill>
        <p:spPr>
          <a:xfrm>
            <a:off x="615960" y="4325760"/>
            <a:ext cx="550800" cy="552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3920" indent="-16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97000" indent="-16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5270400" y="4660560"/>
            <a:ext cx="81144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/28/2011</a:t>
            </a:r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138720" y="4660560"/>
            <a:ext cx="46368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EA09-E788-4DA2-9926-CFF8AB212A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GaDOE PPT Logo Background.tif"/>
          <p:cNvPicPr/>
          <p:nvPr/>
        </p:nvPicPr>
        <p:blipFill>
          <a:blip r:embed="rId2"/>
          <a:stretch/>
        </p:blipFill>
        <p:spPr>
          <a:xfrm>
            <a:off x="0" y="-200160"/>
            <a:ext cx="6950160" cy="5229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1139760" y="4370400"/>
            <a:ext cx="252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39d35"/>
                </a:solidFill>
                <a:latin typeface="Arial"/>
              </a:rPr>
              <a:t>Dr. John D. Barge, State School Superintendent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“</a:t>
            </a: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Making Education Work for All Georgians”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39d35"/>
                </a:solidFill>
                <a:latin typeface="Arial"/>
              </a:rPr>
              <a:t>www.gadoe.org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8" name="Picture 9" descr="DOE-LOGO-single-layer-gold.gif"/>
          <p:cNvPicPr/>
          <p:nvPr/>
        </p:nvPicPr>
        <p:blipFill>
          <a:blip r:embed="rId3"/>
          <a:stretch/>
        </p:blipFill>
        <p:spPr>
          <a:xfrm>
            <a:off x="615960" y="4325760"/>
            <a:ext cx="550800" cy="552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3920" indent="-16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97000" indent="-16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5"/>
          </p:nvPr>
        </p:nvSpPr>
        <p:spPr>
          <a:xfrm>
            <a:off x="5270400" y="4660560"/>
            <a:ext cx="81144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/28/2011</a:t>
            </a:r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1722240" y="4660560"/>
            <a:ext cx="327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EPTEMBER 201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7"/>
          </p:nvPr>
        </p:nvSpPr>
        <p:spPr>
          <a:xfrm>
            <a:off x="6138720" y="4660560"/>
            <a:ext cx="46368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1422-847A-4400-8F5E-195FC623FC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5400" y="0"/>
            <a:ext cx="6584760" cy="34941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br>
              <a:rPr sz="3300"/>
            </a:b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RESA/DOE</a:t>
            </a:r>
            <a:br>
              <a:rPr sz="2700"/>
            </a:b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SUMMER INSTITUTE</a:t>
            </a:r>
            <a:br>
              <a:rPr sz="2700"/>
            </a:br>
            <a:r>
              <a:rPr b="1" lang="en-US" sz="2700" spc="-1" strike="noStrike">
                <a:solidFill>
                  <a:srgbClr val="ffc000"/>
                </a:solidFill>
                <a:latin typeface="Calibri"/>
              </a:rPr>
              <a:t>COMMON CORE GEORGIA PERFORMANCE STANDARDS: STRATEGIES TO MEET THE INCREASED WRITING DEMANDS IN CCGPS</a:t>
            </a:r>
            <a:endParaRPr b="1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36400" y="3200400"/>
            <a:ext cx="5631120" cy="1285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Gerald Boyd, Susan Jaco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Georgia Department of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English Language Ar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s this always a 4-page paper? Is it always even a paper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47760" y="1173240"/>
            <a:ext cx="6254640" cy="24480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group presen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multi-media respo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writer’s worksh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peer review o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just the amount of feedback you provid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Two: Fudge the Numbers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unit plans specify the low-end of the suggested requirements: 4 analy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one of these is a group or multimedia project, then there are 3 full essays to be considered per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of us, thankfully, do not really have 150 student cohorts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7760" y="11916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Three: Vary Your Rubrics</a:t>
            </a:r>
            <a:br>
              <a:rPr sz="33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focus on specific skills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13577" t="31563" r="50949" b="8490"/>
          <a:stretch/>
        </p:blipFill>
        <p:spPr>
          <a:xfrm>
            <a:off x="1763640" y="941400"/>
            <a:ext cx="3149640" cy="332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Rubrics: Continued…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rcRect l="13213" t="28091" r="50949" b="8197"/>
          <a:stretch/>
        </p:blipFill>
        <p:spPr>
          <a:xfrm>
            <a:off x="1635120" y="868320"/>
            <a:ext cx="3490920" cy="387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33888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Four: Round Table Grading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 grading conven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groups of 3-4, take 3 minutes to scan the paper provided to you n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a spot-determination 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AS/ORGANIZATION/STYLE/CON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a score between 1 and 5 in each domain and an overall score between 1 and 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33888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Four: Round Table Grading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and discuss your determin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re a general consensus as to which papers were better? Therefore, would a round-table or even an individual spot grade be valid occasional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paper 2, repeat proc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rigor in the text-based respo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n-Class vs. Outside-of-Class Writing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35160" y="1606320"/>
            <a:ext cx="2016000" cy="1995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9" descr="https://encrypted-tbn0.google.com/images?q=tbn:ANd9GcTTrGXyXCpUxMcgKTRamTsyYyygpPRjt-ouu7GlVuLsXNSgGQYzBA"/>
          <p:cNvPicPr/>
          <p:nvPr/>
        </p:nvPicPr>
        <p:blipFill>
          <a:blip r:embed="rId1"/>
          <a:stretch/>
        </p:blipFill>
        <p:spPr>
          <a:xfrm>
            <a:off x="3529080" y="2362320"/>
            <a:ext cx="2571840" cy="178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7760" y="156852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David Coleman, CCSS Author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on Analytical Writing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4760" y="340920"/>
            <a:ext cx="6254640" cy="38624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700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How Can We Hel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erald Boyd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san Jac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gboyd@doe.k12.ga.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jacobs@doe.k12.ga.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4-617-71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im Jeffcoa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aniel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jeffcoat@doe.k12.ga.us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rock@doe.k12.ga.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4-463-193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0-617-92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 ELA HOMEPAGE: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595959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 u="sng">
                <a:solidFill>
                  <a:srgbClr val="595959"/>
                </a:solidFill>
                <a:uFillTx/>
                <a:latin typeface="Calibri"/>
              </a:rPr>
              <a:t>http://public.doe.k12.ga.us/ci_services.aspx?PageReq=CIServEnglis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5270400" y="4660920"/>
            <a:ext cx="81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8604-567A-46DD-B096-6C5CEA3F57FF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MULTITASKING</a:t>
            </a:r>
            <a:br>
              <a:rPr sz="33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re is a limit to what you can do!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6" descr="https://encrypted-tbn1.google.com/images?q=tbn:ANd9GcRzft4tQLSiP35YLcOjcXHFFdsg0qC7RnAsDu4w5zb01zP-9i7fMw"/>
          <p:cNvPicPr/>
          <p:nvPr/>
        </p:nvPicPr>
        <p:blipFill>
          <a:blip r:embed="rId1"/>
          <a:stretch/>
        </p:blipFill>
        <p:spPr>
          <a:xfrm>
            <a:off x="2376360" y="12351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Writing and Proposed Assessments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831600"/>
            <a:ext cx="438156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96000"/>
          </a:bodyPr>
          <a:p>
            <a:pPr marL="245160" indent="-245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posed PARCC Assessment System will be designed to measure knowledge, skills and understandings essential to achieving college and career readiness. In ELA/Literacy, these include the following areas as defined by the standar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5160" indent="-24516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Documents and Settings\Susan Jacobs\Local Settings\Temporary Internet Files\Content.IE5\IW4UR388\MC900412754[1].wmf"/>
          <p:cNvPicPr/>
          <p:nvPr/>
        </p:nvPicPr>
        <p:blipFill>
          <a:blip r:embed="rId1"/>
          <a:stretch/>
        </p:blipFill>
        <p:spPr>
          <a:xfrm>
            <a:off x="4417920" y="858960"/>
            <a:ext cx="2217960" cy="282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t is All About the Evidence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4720" y="960120"/>
            <a:ext cx="421488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94000"/>
          </a:bodyPr>
          <a:p>
            <a:pPr marL="2160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riting effectively when using and/or analyzing sources: This requires students to demonstrate the interrelated literacy activities of reading, gathering evidence about what is read, and analyzing and presenting that evidence in writ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" descr="C:\Documents and Settings\Susan Jacobs\Local Settings\Temporary Internet Files\Content.IE5\E5W1HYZX\MP900402892[1].jpg"/>
          <p:cNvPicPr/>
          <p:nvPr/>
        </p:nvPicPr>
        <p:blipFill>
          <a:blip r:embed="rId1"/>
          <a:stretch/>
        </p:blipFill>
        <p:spPr>
          <a:xfrm>
            <a:off x="5322960" y="2660760"/>
            <a:ext cx="134604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7760" y="202680"/>
            <a:ext cx="6254640" cy="7304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What is PARCC? 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tnership for Assessment of Readiness for College and Careers (PARCC) is a consortium of states working together to develop a common set of K-12 assessments in English and math anchored in what it takes to be ready for college and care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10680" t="25190" r="58733" b="63519"/>
          <a:stretch/>
        </p:blipFill>
        <p:spPr>
          <a:xfrm>
            <a:off x="2133720" y="1025640"/>
            <a:ext cx="2641320" cy="60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ample Suggested Writing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22083" t="30982" r="19453" b="12543"/>
          <a:stretch/>
        </p:blipFill>
        <p:spPr>
          <a:xfrm>
            <a:off x="277920" y="1044720"/>
            <a:ext cx="6178320" cy="3813120"/>
          </a:xfrm>
          <a:prstGeom prst="rect">
            <a:avLst/>
          </a:prstGeom>
          <a:ln w="0">
            <a:noFill/>
          </a:ln>
        </p:spPr>
      </p:pic>
      <p:sp>
        <p:nvSpPr>
          <p:cNvPr id="145" name="Oval 4"/>
          <p:cNvSpPr/>
          <p:nvPr/>
        </p:nvSpPr>
        <p:spPr>
          <a:xfrm>
            <a:off x="3176640" y="1376280"/>
            <a:ext cx="730080" cy="2835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4332240" y="1690560"/>
            <a:ext cx="692280" cy="7286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Straight Connector 7"/>
          <p:cNvSpPr/>
          <p:nvPr/>
        </p:nvSpPr>
        <p:spPr>
          <a:xfrm flipH="1">
            <a:off x="4405320" y="1717560"/>
            <a:ext cx="582480" cy="684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PARCC Recommended Writing Guidelines by Grade Level 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https://encrypted-tbn1.google.com/images?q=tbn:ANd9GcQHNuFfRR-qE3P1weptcKaQoTPJF_kCAO9s_XO3oUV3vZTGhsMn"/>
          <p:cNvPicPr/>
          <p:nvPr/>
        </p:nvPicPr>
        <p:blipFill>
          <a:blip r:embed="rId1"/>
          <a:stretch/>
        </p:blipFill>
        <p:spPr>
          <a:xfrm>
            <a:off x="2558880" y="1528920"/>
            <a:ext cx="170532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Let’s Crunch the Numbers: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987720" y="1146240"/>
            <a:ext cx="2652840" cy="22255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304920" y="923760"/>
            <a:ext cx="35924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ch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 Students x  6 Analysis essays = 900 essay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pages each = 360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inutes per page = 7200 minut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00 minutes = 120 hours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 IMPOSSIBL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One: Define “Analysis” 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me the author, title of the work, etc., and major claim or thesis of 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ive an explanation of how the author develops and supports the major claim (thesis statem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ive a statement of the author's purpose, followed by an "in order to" phr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ive a description of the intended audience and/or the relationship the author establishes with the audien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5:23:23Z</dcterms:created>
  <dc:creator>Missy Smith</dc:creator>
  <dc:description/>
  <dc:language>en-US</dc:language>
  <cp:lastModifiedBy>Susan Jacobs</cp:lastModifiedBy>
  <dcterms:modified xsi:type="dcterms:W3CDTF">2012-07-11T16:54:34Z</dcterms:modified>
  <cp:revision>368</cp:revision>
  <dc:subject/>
  <dc:title>PowerPoint Presentation</dc:title>
</cp:coreProperties>
</file>